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154715"/>
        <c:axId val="92365147"/>
      </c:barChart>
      <c:catAx>
        <c:axId val="611547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365147"/>
        <c:crosses val="autoZero"/>
        <c:auto val="1"/>
        <c:lblAlgn val="ctr"/>
        <c:lblOffset val="100"/>
        <c:noMultiLvlLbl val="0"/>
      </c:catAx>
      <c:valAx>
        <c:axId val="923651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1547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92BB-9A26-4472-B7B4-BAE20C04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809F-9CC2-4F9E-9356-C572A455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3E4B-00D7-40B3-B1FF-3FC05D1D4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8B58-DA07-4373-BE07-0E152C76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2354-37A9-4FDB-9968-D6492B07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D2CC-C35F-42B5-9AD0-F4DC0F28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55FD-8CD1-4810-95A0-77BA53C0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228D-78A7-442C-854D-AE70048B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019A-7DFD-4E74-BF87-63AF9780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9D9F-71AF-4F68-B4F2-9FAF4DAD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0419-6052-4C18-9904-8902818D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1BE4-F035-46D2-A5C8-8847BF9F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3090A-0A92-4355-8DF0-53889781BE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